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0F2A-6B51-4DE4-BECF-5804AB635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AF5B-2727-4DF7-9564-6CF1D9680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2C3E-60AC-4C32-96D9-65AF4AC31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72FE-7ACB-4FD9-8CDE-7C3EBA6EA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3EDB-2FBA-41D2-918F-0B8AA8B88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FB67-F3D5-4B77-AF08-08A6CCFACC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B1CE-C9B6-4767-91B2-DEB1239AD4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70FB-6E2E-4B94-BD46-7E63082EF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847D-D063-4ACD-AC56-3D977D5B6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A5D9-505A-4098-B8A9-A415A7F39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E3D2-7090-41FA-B174-80FCC101F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1362-AA88-4B96-8A5C-8A94395B3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689-4EBC-4528-B726-28730D0D3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6D6F-B8FA-4FFC-9B5E-93CBCBAB5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617A-2725-4D8E-869C-35068D564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A3DB-0CBB-4259-A380-78E090C8C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3E64-7599-4BEA-9034-0A7D1555C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6FFC-82DF-483A-8560-DC4FA9309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C78C-D7A3-4D57-9B41-565DB1236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B7DD-C42E-4282-8074-B51120057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1009-D5C2-44B9-987C-EE6D7F674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22EB-F89B-4D10-B4F9-BB209FA1B0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BDEA-498B-4A33-9256-1679EFF8F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57CB-D921-47F2-AF56-3C89FF8A0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CA93-C50C-450D-8805-E3B2A8329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756-4626-4124-AF47-1929774B9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F77-29AA-4624-9D64-1D341069E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7F44-AE74-4F63-A72C-6DA4AA831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E4B7-6F23-4296-86E0-ED782420C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5751-6851-4AF2-B974-DE748C880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22E4-3BB8-4EAD-B0ED-29DD4D211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A20-5232-40A7-9B13-64DA2FDD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24B-FFA2-4DD2-9073-F6ECC717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842-0770-4EDC-A384-A4E288D8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F6A-6E41-4F55-9DCC-D18E6E02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F36-736E-4FD2-801E-20B22BF2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501-4D67-4312-83AE-95000EB7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4B6-F3A9-4D73-8D28-84C32A21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7AD-DFD1-444D-891B-B4279B6B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45E-8A62-4C2B-8837-68FEC78E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E6B-0AC6-457E-A2D6-CD35AC30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E62-8554-4555-98C3-E9BB778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744-2E7D-43E9-8895-73D7C6A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2A88-5B3E-402B-BDCA-8ECE8F1F64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539640" y="371628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6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1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RomaK</cp:lastModifiedBy>
  <dcterms:modified xsi:type="dcterms:W3CDTF">2015-08-06T10:56:26Z</dcterms:modified>
  <cp:revision>8</cp:revision>
  <dc:subject/>
  <dc:title>Slide 1</dc:title>
</cp:coreProperties>
</file>